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F7E-F239-43C7-9ECF-07450E0A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85FC-1607-4D8C-95F5-F99B23D1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4CC-6675-4B9E-AA2D-FCA3639F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1F3-294F-4FA5-9345-AD2A6629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2B92-9F9E-437E-97B8-9A44EC70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2B22-9973-4834-9253-9C37F672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E164-D1DE-44A3-BA76-F53EE0EB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5E85-6F67-4482-8AF2-01FE32FD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45BD-69DE-400C-A8C5-F85F7CE5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F928-79A3-4F5C-9E80-9EE3A6AD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61D1-F7B6-4FD3-B2BF-ED0EEA89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FA4-6F45-4888-93F8-3727B59A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1541-4671-4695-8654-356947E6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7320-F01A-4D23-85D7-18F47C2C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7742-1679-4603-BC4F-9B694646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70CF-6164-49E8-8ED6-8C7E8BAF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AD77-D130-43FE-9E14-4247F064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23D3F-DAE7-446A-B1CE-BB3C5EFC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B6FDA-076E-48E6-9AE3-23A8BBC6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51F5E-C70E-43D1-837A-35396092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1DAF-C907-4906-9BE3-409A78E2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2FF6A-C7DF-4B97-8709-1E1E79F2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8930-C43A-4FBF-A708-E6570764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C3E9E-B596-463B-9FA0-1DE08354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575CA-9315-427C-9313-02A464B4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9BE35-797B-40C2-AC66-48A2B4F6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ACAE7-C632-4200-B49E-5F32E1C7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38935-5580-4CBB-B64A-2D58E927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F6F35-5901-4DD8-AA0E-D3C9F406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3A93F-E313-4CEE-8934-1B992672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BF7D0-0FE3-4BBF-B656-9A2C9BF6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DBD4C-9E15-49E0-888F-47D6BDDF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2E191-6651-4F43-A98E-92916A1E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B67-C6D1-4EA4-A238-8A254E0A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431A4-0465-4D67-BD3A-33824A66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8B11F-4E85-49B8-82CC-B2C14D1F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34243-2239-4AE1-8173-84C3BCD4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71583-77EF-44F9-95DC-2EBDF830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EF5AD-19A0-4BAB-B27C-B180AAB1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342B9-F784-4B9F-BDBA-58D45616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A4259-5DB3-4141-96B0-DDFD3CDD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DAB32-503C-4B6E-863E-80AEA54A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B04D6-4790-4321-B062-2B41C40B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3AA4D-DFB4-4D1B-B392-EB7463AD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54A2-03E8-45CD-A205-69A163EA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8182C-601B-4FF1-A2D7-EC35220F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C27F8-55AB-40FF-BB8B-0F1D93E5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0A233-214D-433B-AEFC-D9C72049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3B7EB-8BEA-4E63-A6FC-64B7C1F8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5CEB2-83F4-46FC-9040-7462E24B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50995-3B68-4661-8D18-634BD6E0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07489-D80C-4C10-936A-5B67B015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42FCD-BEE5-4E29-B72A-64F3DCC0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7F3E1-E6E4-43B8-8909-BEEDA5D2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6029F-CF0C-4558-A656-9A35BD16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330-BA67-404A-9E37-8A8075B6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21849-D9FD-4CB9-A332-1D3587F8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D37C8-A92A-41D8-922A-BEAB0850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A001E-44D2-4455-A62A-D25EAE84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E74BF-855B-41E5-B40A-91905624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0ADFA-694A-47A4-9BAC-C48DDFFF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25335-8849-4E22-83B3-819ED6FB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93025-C4BD-4392-92EE-61EC8453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E7AB3-030E-4DF6-916C-D8A10F99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DAA41-DB69-43CA-B0E2-0FD24AE2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DA6EB-3405-4792-A7B6-78C03DA3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505-38CD-490E-9B9F-4BD34F83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5BC39-3F0E-49A9-BEE7-62ACDC50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1C7F8-6531-4C3F-BB70-5F58CF15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D4407-D2E1-4321-A501-957E293B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6A2D0-16DE-4032-AC62-53582144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1ABF6-9075-4BA4-9128-F5C1DD0D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C808B-6F53-4403-8543-D8BC3133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1C5AD-B537-4D8D-93A3-E7FA0336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A283C-2AC8-4AB2-B654-D9174675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F47FD-D65C-4BEE-861D-AC71C96E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C9598-2C22-496E-B1B7-270BB3E2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B8F-20A0-422F-83D5-636B751B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7D95C-B4FB-4446-BFE5-0FFA6137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8C670-DF03-42AB-BE4D-9BF9C03B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AA598-3211-45AE-BB44-BBCEC029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2D757-E7EB-48E6-B8B3-DA297FF8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DA00C-3980-4C20-8BE0-229D7978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A9327-3318-448F-9138-E5CA0C0C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4CC7C-06A4-4082-936E-FF9B5329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B769E-FB05-4205-873F-B2804A12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478C6-F62D-4679-988D-47B61699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DB6A7-1007-429A-93A1-B1414062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0E1-1E93-4042-B181-C81DC79C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A01FA-4516-407D-BE72-92057560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A3D36-1B71-4A9D-AA50-97006F5E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AB985-E446-4322-A7B1-0ED9500E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CE17E-96BC-4A53-AFB8-469F668A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4B3AD-507B-4059-BF28-0911D9FF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523F3-329C-498F-80B7-62208001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4BFD5-F095-48A3-AA07-A9B4A6BD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nettore 1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DE31-88F5-4A9E-868A-B08E270A65FA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angolo rettangol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po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igura a mano libera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igura a mano libera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igura a mano libera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igura a mano libera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nettore 1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5402-4A02-49D8-B667-B455AE3440F4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nettore 1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Gallone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Gallone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9B2C-79C9-4D77-8AE4-FEA79A16B76E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nettore 1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C94D-7CDC-4D76-A159-425DE821BDC5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027B-4D84-40C7-BAD5-C28EFA186391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nettore 1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9EAA-5DF9-4D89-B7AA-831B01B6F962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AD76-0265-444F-8767-E23945999318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igura a mano libera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igura a mano libera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angolo rettangolo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angolo rettangolo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nettore 1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Gallone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Gallone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CE24-9D4F-4971-9CE2-2B666538C125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INDICAZIONI NAZIONALI PER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IL CURRICOLO DELLA SCUOLA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DELL’INFANZIA E DEL PRIMO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CICLO D’ISTRUZION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Lucida Sans Unicode"/>
              </a:rPr>
              <a:t>(16 novembre 2012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Armanda Selva                                                                       18 marzo 2014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382D-182B-435D-8257-B3148355AF97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256536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 tre paragrafi vanno riletti con attenzione, anche se  sono  rimasti  pressoché invariati, perché costituiscono il fulcro del nostro fare scuo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olo 4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734320" cy="3529080"/>
          </a:xfrm>
          <a:prstGeom prst="rect">
            <a:avLst/>
          </a:prstGeom>
          <a:ln w="0">
            <a:noFill/>
          </a:ln>
        </p:spPr>
      </p:pic>
      <p:sp>
        <p:nvSpPr>
          <p:cNvPr id="402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70C4-CF4E-4356-A186-A89D1F5ADB0D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Lucida Sans Unicode"/>
              </a:rPr>
              <a:t>SCUOLA, COSTITUZIONE, EUROP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  “</a:t>
            </a: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La scuola italiana, statale e paritaria, svolge l’insostituibile funzione pubblica  assegnatale dealla Costituzione della Repubblica, per la formazione di ogni persona e la crescita civile e sociale del Paese”. (pag.13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05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D333-839B-494A-880D-6F087F1C29FD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23493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nsolida le responsabilità comuni dei docenti che operano nella scuola  con alunni dai tre ai quattordici ann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ccoglie le competenze - chiave indicate dal Parlamento europe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Difende la peculiarità della ns. cultura pedagogi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olo 2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240760" cy="2333520"/>
          </a:xfrm>
          <a:prstGeom prst="rect">
            <a:avLst/>
          </a:prstGeom>
          <a:ln w="0">
            <a:noFill/>
          </a:ln>
        </p:spPr>
      </p:pic>
      <p:sp>
        <p:nvSpPr>
          <p:cNvPr id="408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DA09-1421-4581-881D-F897D326B623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e Ind. Naz.li sono quadro di riferimento per la progettazione del curricolo affidata alle scuo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a costruzione del curricolo...processo con il quale si sviluppano e organizzano la ricerca e l’innovazione educativ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Ogni scuola predispone il curricolo all’interno del POF con riferimento al profilo dello studente al termine del primo ciclo di istruzione (pag. 17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olo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411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1911-E072-4EFE-9C52-944594AF6DAF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ultura della valutaz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ertificazione delle competen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ccoglienza della diversità come valore irrinunciab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nsolidamento delle pratiche inclusiv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articolare cura riservata agli allievi con disabilità o con B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Scuola comunità educativa (studenti, docenti, genitor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munità professionale dei docen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olo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sp>
        <p:nvSpPr>
          <p:cNvPr id="414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2078-763A-4593-A81A-15297571609D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a la funzione di evitare la frammentazione dei campi d’esperienza e di favorire il passaggio alla scuola primaria con particolare attenzione agli aspetti socio-emotiv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Riflettere molto su questo paragraf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olo 2" descr=""/>
          <p:cNvPicPr/>
          <p:nvPr/>
        </p:nvPicPr>
        <p:blipFill>
          <a:blip r:embed="rId1"/>
          <a:stretch/>
        </p:blipFill>
        <p:spPr>
          <a:xfrm>
            <a:off x="396720" y="60480"/>
            <a:ext cx="8472600" cy="1450800"/>
          </a:xfrm>
          <a:prstGeom prst="rect">
            <a:avLst/>
          </a:prstGeom>
          <a:ln w="0">
            <a:noFill/>
          </a:ln>
        </p:spPr>
      </p:pic>
      <p:sp>
        <p:nvSpPr>
          <p:cNvPr id="417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A29F-54E6-48B5-AC12-8F1F787878E7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iflettere su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’alfabetizzazione culturale di b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ittadinanza e costituz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’ambiente di apprendimen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a soprattutto su: </a:t>
            </a:r>
            <a:r>
              <a:rPr b="1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’ambiente di apprendimento</a:t>
            </a:r>
            <a:r>
              <a:rPr b="0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...</a:t>
            </a:r>
            <a:r>
              <a:rPr b="1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mparare ad apprende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r>
              <a:rPr b="1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coraggiare l’apprendimento collaborativo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alizzare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attività didattiche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 forma di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laboratorio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BD93-1A7E-4EAF-BF08-A61290360DB1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La valutazione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ssume una preminente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funzione formativa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, di accompagnamento dei processi di apprendimento e di stimolo al miglioramento continuo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3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F8DD-D2DA-4737-89C4-6003A6F9D17C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Occasione di crescita professionale attraverso la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 ricerca-az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centrato sulla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Matematica ,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a più concreta delle discipline ( i concetti matematici, il calcolo, la misura... Sono presenti nella vita quotidiana di tutti gli uomin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Occasione per lo sviluppo di processi di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apprendimento collaborativ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7F8A-DD24-4387-9A31-A32D37A14425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...spetta all’autonomia didattica delle comunità professionali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progettare percorsi per la promozione, la rilevazione e la valutazione delle competenze. [...] Solo a seguito di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na regolare osservazione, documentazione e valutazione delle competenze è possibile la loro certificazione,..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mpetenza e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competenza esperta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( Pellerey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9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5714-C0C8-44FD-90CA-F4333F81774D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LEGGE 59 DEL 15 MARZO 1997- art.21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, c.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D.P.R. 275 dell’8 marzo 1999, cap. III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Curricolo nell’autonomia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, art.8 (definisce senso ne significato indicazioni, precisando ni compiti dello Stato e quelli delle singole Istituzioni Scolastich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Legge 53 del 28 marzo 2003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(Min.o Moratt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D.Lgs. 59 del 19 febbraio 2004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(Allegati A, B, C, 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698C-D27B-4CD3-87C7-7818167F1ED0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2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Titolo 6" descr=""/>
          <p:cNvPicPr/>
          <p:nvPr/>
        </p:nvPicPr>
        <p:blipFill>
          <a:blip r:embed="rId1"/>
          <a:stretch/>
        </p:blipFill>
        <p:spPr>
          <a:xfrm>
            <a:off x="317520" y="-109440"/>
            <a:ext cx="8686800" cy="1309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2"/>
          <a:stretch/>
        </p:blipFill>
        <p:spPr>
          <a:xfrm>
            <a:off x="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3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4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5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6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7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/>
          <p:cNvPicPr/>
          <p:nvPr/>
        </p:nvPicPr>
        <p:blipFill>
          <a:blip r:embed="rId8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ttivazione di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buone pratiche 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er un insegnamento – apprendimento efficace al fine di “forgiare individui autonomi e uomini liberi” (F. Savate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32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B6CE-636A-48EF-9BED-DD86A27EE869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INDICAZIONI PER IL CURRICOLO PER LA SCUOLA DELL’INFANZIA E PER IL PRIMO CICLO D’ISTRUZIONE, 2007 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(Min.o Fioron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Atto d’indirizzo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inistro Gelmini dell’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8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settembre 2009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– Premessa – 2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D.P.R. 89/2009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prevede la  revisione delle Indicazioni 2007 dopo il triennio 2009 – 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C.M. N. 101 del 4 novembre 2011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avvio monitoraggi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C.M. N. 31del 18 aprile 2012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esplicita criteri di revis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1A66-FEC1-423D-B99B-737513CE9B49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Lucida Sans Unicode"/>
              </a:rPr>
              <a:t>Giugno 2012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: pubblicazione “</a:t>
            </a:r>
            <a:r>
              <a:rPr b="1" lang="it-IT" sz="2700" spc="-1" strike="noStrike">
                <a:solidFill>
                  <a:srgbClr val="000000"/>
                </a:solidFill>
                <a:latin typeface="Lucida Sans Unicode"/>
              </a:rPr>
              <a:t>Bozza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pubblica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5 settembre 2012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pubblicazione </a:t>
            </a:r>
            <a:r>
              <a:rPr b="1" lang="it-IT" sz="2700" spc="-1" strike="noStrike">
                <a:solidFill>
                  <a:srgbClr val="000000"/>
                </a:solidFill>
                <a:latin typeface="Lucida Sans Unicode"/>
              </a:rPr>
              <a:t>“Bozza“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rivista in base alle osservazioni di docenti, esperti 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26 novembre 2012: pubblicazione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fficiale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NUOVE INDICAZIONI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nitamente al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Regolamento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ttuativo (Min.o Profum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e I.N. sostituiscono i Piani di studio Personalizzati del 2004 (Moratti) e le I.N. del 2007 (Fioron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2833-DA84-460C-AEDC-3C13728396BB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3964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Quindi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l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nuovo documento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non è stato redatto ex-novo, ma è il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risultato della revisione delle Indicazioni 2007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È  il frutto degli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esiti del monitoraggio triennale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, della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consultazione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diretta delle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scuole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e del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contributo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degli 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esperti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Delinea un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 nuovo scenario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8621-AE6A-4B24-A5D7-A83004FA87C9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it-IT" sz="3500" spc="-1" strike="noStrike">
                <a:solidFill>
                  <a:srgbClr val="000000"/>
                </a:solidFill>
                <a:latin typeface="Lucida Sans Unicode"/>
              </a:rPr>
              <a:t>LE NOVITÀ</a:t>
            </a:r>
            <a:r>
              <a:rPr b="0" lang="it-IT" sz="25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Lucida Sans Unicode"/>
              </a:rPr>
              <a:t>FINALITÀ GENERALI </a:t>
            </a:r>
            <a:r>
              <a:rPr b="0" lang="it-IT" sz="2500" spc="-1" strike="noStrike">
                <a:solidFill>
                  <a:srgbClr val="000000"/>
                </a:solidFill>
                <a:latin typeface="Lucida Sans Unicode"/>
              </a:rPr>
              <a:t>(le 8 competenze chiave per l’apprendimento permanente – Raccomandazioni del Parlamento europeo  e del Consiglio UE del 18 dicembre 2006; il profilo dello studente e delle competenze al termine del primo ciclo d’istruzione)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ORGANIZZAZIONE DEL CURRICOL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LA SCUOLA DELL’INFANZI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I CAMPI DI ESPERIENZ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DALLA SCUOLA DELL’INFANZIA ALLA PRIMARI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80BE-71C6-4282-BA1E-115077679AAD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CULTURA, SCUOLA, PERSO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( riflettere su INTERCULTURA e NUOVE TECNOLOGIE di informazione e comunicazione, confrontando il testo con quello del 2007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L’ORGANIZZAZIONE DEL CURRICOL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LA SCUOLA DELL’INFANZ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(I </a:t>
            </a: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DOCENT</a:t>
            </a: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I: vale per tut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7B84-167D-4FEC-903D-0A1B11D5BB6D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... La scuola non ha più il monopolio delle informazioni e dei modi di apprendere [...] il fare scuola oggi significa mettere in relazione la complessità di modi radicalmente nuovi di apprendimento con un’opera quotidiana di guida  [....]. Al contempo significa curare e consolidare le competenze e i saperi di base, che sono irrinunciabili perché sono le fondamenta per l’uso consapevole del sapere diffuso...” ( pag. 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Segnaposto numero diapositiva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B2B9-C74C-437A-8752-01524BA24202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Titolo 3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na molteplicità di culture e di lingue sono entrate nella scuola. L’intercultura è già oggi il modello che permette a tutti i bambini e ragazzi il riconoscimento reciproco e dell’identità di ciascuno. [...]La scuola raccoglie con successo una sfida universale, di apertura verso il mondo, di pratica dell’uguaglianza nel riconoscimento delle differenze.” (pag. 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olo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99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12E3-2C32-49E8-B9A3-A779FD0D5DD6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23:46:01Z</dcterms:created>
  <dc:creator>Armanda2</dc:creator>
  <dc:description/>
  <dc:language>en-US</dc:language>
  <cp:lastModifiedBy>Toshiba</cp:lastModifiedBy>
  <dcterms:modified xsi:type="dcterms:W3CDTF">2014-04-05T04:49:01Z</dcterms:modified>
  <cp:revision>54</cp:revision>
  <dc:subject/>
  <dc:title>INSERIMENTO SCOLASTICO ALUNNI STRANIERI</dc:title>
</cp:coreProperties>
</file>